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68AD-52A7-480E-A766-B677C8EEA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FB8B-292E-4417-8650-FFCCBE4A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0FE2-7D3A-4BE6-A0B0-C0EA419CF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6361-FC02-495B-9C64-83FF94DAE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BC58-E99C-4388-AE80-67E7BCDC6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3DDE-5EF7-404E-B7F2-B1A55786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95B6-5DFF-439C-9EBD-941F7B67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883C-8A20-4F11-B2C8-B5CD5AB8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7903-DFCD-427E-AAA3-67AD7616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5F08-1E83-40BA-B043-6FB7E321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FB48-B926-48D8-A907-6A3A8731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1B13-BA60-41C2-AE63-2FD3F340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14D4-3308-4693-9ADC-0CF6DC05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678E-E1A4-401A-AE3E-E3DFA193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326C-8145-4FFB-8C47-9E49247F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E792-F4A7-47D2-917A-C3A1CFE91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1291-D588-4216-9FDA-3E26F03CA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1FFE8C-6864-455A-8501-6D22A2B03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68C7C5-E526-4C91-8B81-FA960AE3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AFAD46-8BB9-42A2-9733-2D86EA78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F43EDE-53EB-4D10-974C-A5CE051A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75C632-749D-4A56-8C47-EADF1EF2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F936-2296-4B8B-BCFA-7B1E21AE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91F93F-516C-4483-9362-3411FFDC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2837A7-1957-4E48-9641-3F0CE553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73722F-0376-4517-B612-712F1C7A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2AF9E2-C64D-47C1-992D-7D7064A3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74D852-C811-4B02-94F0-60DCE1A6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42FA0F-E820-4BCF-86A0-ED3A30309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EDDBBB-AE18-456D-AA31-1D7B86789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E8FE1D-D1D4-4698-931F-809E7D57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610B34-EDAF-443E-9ACB-862DEDC0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38D057-2B65-447B-B021-014B2FD7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EE22-A02C-4664-A6FF-747E9B88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691383-1C47-45D0-984D-9CC7F60F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C9C12E-F982-4566-A3A5-ABB2D554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8C7C97-A522-4CBF-9364-F5A88DBB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1BA5F4-FAE2-4518-8852-2598711E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F8C395-0776-4255-A022-BD3F50EB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A7FCA5-A762-4297-9844-D7422DAA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FC7C1A-3413-4F44-A53B-FF95FBB1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DF8D3F-3132-40AD-B6DA-60209926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B6ABA2-3616-4B3A-B13C-8C93C39E6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B139F6-7A20-4E7A-9E56-481611F6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CB2E-FD24-43D2-8104-B8C697E6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A81BC1-3822-40A1-A08A-9EF09955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37B6B4-58C0-4DF8-9FC2-DB30210B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6B4974-AC23-44EE-8754-81C8F7DD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EA3F84-0295-45D0-A332-49E2F33C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37B91A-7406-4567-8C1C-3A145E22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55F39A-DD5E-4341-AB04-CA759415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34DD12-CA58-4827-94FF-ACD16BD3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730BD6-00CD-4938-9886-3281ED2B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5321BC-945D-4F22-9CCC-CD1DDA4A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97394A-CBC0-41D8-B0AB-5B0E57DE0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C6A8-B322-4258-A418-C2AA39E2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04B684-680D-4447-B7A6-37E71443F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7E2DF-D48F-4908-A067-CC2CA8477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6C509-DAF3-4F2B-A7F3-4255C87A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4A4E7-3EAA-42E1-9DA5-95A02278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875B2-F2B7-4D28-95BE-F9948275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BA6B1-DCA9-4038-BBEC-4365C8E1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03BEE-5F18-4110-BA98-741F73C2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6DB5B-2C40-4A3E-AA3E-8226B1B9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D9C1A-1E9A-4C4D-80C9-F8545EF6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A6586-0B61-47FC-9648-BDE45D65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690F-A6B4-41C8-BC7C-3F84EBD7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250AF-7382-4B31-BD63-BFE93816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18CF2-348F-4DEF-B480-10DFBB119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B13EE-31FE-4A29-9EA5-0C77E697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27D79B-74E7-485C-9981-0776B7480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F6B9F6-0751-451A-9BB6-FB4B3866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AA3187-E401-45AC-A058-E0FAD2A2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8C6DBC-1B2E-44AF-A93C-FE521FB6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2613E3-8B79-43CA-B1EE-7A976DE8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0E7A3B-687A-4DC5-B58F-4FC0A28D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B31979-AE27-433E-980F-88C1B695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0E69-D547-4B7E-A991-C328B77C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8E951F-FCA3-45B8-BFF3-72630F09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1E188A-4C06-4188-95FD-6DCDABAF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2344AA-A143-48F6-B115-F1BD8313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7FD9CB-2DAC-496C-A629-197B867B3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12ADB6-FBAB-483A-99C1-103C0AA73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9D285-75DD-47AA-BB5E-478C19B29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8D10E-E4B2-4BCF-88BB-BFD4937E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42B7C-186A-44D4-A8C7-8CCB927F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13355-4380-4FCD-B39B-89260C94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B240B-BFC3-4849-AB0C-F8D77CB8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730B-FC5D-4889-8C09-81F383D4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0E66C-0894-4A94-A49F-E639CC36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71BFE-AF9B-4922-8D93-CFFE47E1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C489D-90BB-4259-9293-932EAEE6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71BE3-D5B1-4CD3-89AA-FBC9170E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CA313-46E1-458C-9FBB-DDAE5662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22895-4BB2-4F12-A47B-FF3D76B78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84604-F9B0-40A1-9047-57189DD9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548C-196F-4C4D-B68E-10B64D46A5A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C15D-A15F-4937-9CF4-D87D0F090A74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F175-6A28-4904-AB64-9A19243BDABB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42EF-863A-407C-B34D-37E048686E3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8852-A420-4230-8DC6-E6A8F1EC7FE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E456-AF94-4E41-B545-90AF72A4DB77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Прямоугольник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Прямоугольник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Прямоугольник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E335-F1CF-40FD-9CED-3358AF2C088F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оугольник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оугольник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4BA3-1269-431A-9300-4663370283D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libri"/>
              </a:rPr>
              <a:t>КОМПЕТЕНЦИИ УЧИТЕЛЯ И ЕГО КОМПЕТЕНТНОСТЬ</a:t>
            </a:r>
            <a:endParaRPr b="0" lang="en-US" sz="72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Calibri"/>
              </a:rPr>
              <a:t>Августовские ММО  учителей начальных классов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Calibri"/>
              </a:rPr>
              <a:t>МО Кувандыкский район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Calibri"/>
              </a:rPr>
              <a:t>2009-2010 учебный год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28760" y="35676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ff0000"/>
                </a:solidFill>
                <a:uFillTx/>
                <a:latin typeface="Calibri"/>
              </a:rPr>
              <a:t>Профессиональные компетенции учител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азовая компетентность учителя заключается в умении организовать такую образовательную,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развивающую среду,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которой становится возможным достижение образовательных результатов ребенка, сформулированных как ключевые компетенции. Уметь организовать обучение таким образом, чтобы оно стимулировало интерес, желание вместе думать и дискутировать, ставить оригинальные вопросы, проявлять независимое мышление, формулировать идеи, высказывать разнообразные точки зрения. Чтобы оно мотивировало учащихся на более высокие достижения и интеллектуальный рост. Можно выделить те характеристики ситуаций, которые должен уметь организовать любой учитель с целью создания в классе «развивающей среды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7200" y="28548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Характеристики образовательных ситуаций, которые должен уметь организовать любой учитель </a:t>
            </a: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с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целью создания в классе «развивающей среды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тивация учащихся на реализацию той или иной работы,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остоятельная, мотивированная учебная работа учащегося, деятельность (самостоятельное осуществление разных видов работы, в процессе которой происходит формирование умений, понятий, представлений поиск нужной информации, проектирование и реализация своей деятельности, осознанность цели работы и ответственность за результат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уществление учащимся самостоятельного выбора (темы, целей, уровня сложности задания, форм и способов работы и т.д.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ичие групповой проектной работы учащихся (определение тем и проблем, распределение обязанностей, планирование, дискуссия, оценка и рефлексивное обсуждение результатов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астие детей в различных формах дискусс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ние понятий и организация на их основе своих действ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истема оценивания, которая позволяет и помогает учащемуся планировать свои будущие учебные результаты, самому оценивать уровень их достижения и совершенствовать и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57120" y="0"/>
            <a:ext cx="84297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Возможные действия учителя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направленные на создание развивающей сред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ощрять за попытки что-то сделать самостоятельн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емонстрировать заинтересованность в успехе учащихся, связанном с достижением поставленных цел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буждать к постановке трудных, но реалистичных цел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буждать к выражению своей точки зрения, отличной от точки зре­ния окружающи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буждать к опробованию других способов мышления и поведе­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ключать учащихся в разные виды деятельности, развивающие у них различные способ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здавать разные формы мотивации, позволяющие включать в мо­тивированную деятельность разных учащихся и поддерживать их актив­ност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зволять строить картину мира на основе своего понимания и куль­турных образц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здавать условия для проявления инициативы на основе собствен­ных представлен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чить не бояться высказывать свое понимание проблемы. Особенно в тех случаях, когда оно расходится с пониманием большинств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чить задавать вопросы и высказывать предлож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чить выслушивать и стараться понять мнение других, но соблюдать право не соглашаться с ни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6840" y="213840"/>
            <a:ext cx="8472600" cy="63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Учить понимать других людей, имеющих иные ценности, интересы и способности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чить определять свою позицию относительно обсуждаемой проблемы и свою роль в групповой работ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оводить до полного понимания учащимися критериев оценки результатов их работ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чить осуществлять самооценку своей деятельности и ее результатов по известным критерия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чить работать в группе, понимая, в чем состоит конечный результат, при выполнении своей части работ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казывать, что лежит в основе эффективной работы групп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зволять учащимся брать на себя ответственность за конечный результа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зволять учащимся находить место в коллективной деятельности сообразно своим интересам и способностя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елиться с учениками своими мыслями, чувствами, ожиданиями относительно обсуждаемой проблемы, темы или конкретной ситуации их деятель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казывать ученикам, как можно самостоятельно учиться и придумывать что-то ново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1оддерживать учащихся, когда они делают ошибки, и помогать справляться с ни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казывать относительность любого знания и его связь с ценностями, целями и способами мышления тех, кто их породи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емонстрировать учащимся, что осознание того, что я чего-то «не знаю», «не умею» или «не понимаю», не только не стыдно, по является первым шагом к «знаю», «умею» и «понимаю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0" y="357120"/>
            <a:ext cx="9144000" cy="65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Основные компетенции современного учите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меть учиться вместе с учениками, самостоятельно закрывая свои «образовательные дыры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меть планировать и организовывать самостоятельную деятельность учащихся (помогать учащемуся определять цели и образовательные результаты на языке умений/компетенций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меть мотивировать учащихся, включая их в разнообразные виды деятельности, позволяющие наработать им требуемые компетен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меть «сценировать» учебный процесс, используя разнообразные формы организации деятельности и включая разных учащихся в разные виды работы и деятельности, с учетом их склонностей, индивидуальных особенностей и интерес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меть занимать позицию эксперта в отношении демонстрируемых учащимся компетенций в разных видах деятельности и оценивать их при помощи соответствующих критерие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меть подмечать склонности учащегося и в соответствии с ними определять наиболее подходящий для него учебный материал или деятель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500040" y="71424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ладеть проектным мышлением и уметь организовать групповую проектную деятельность учащихся и руководить е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ладеть исследовательским мышлением, умея организовать исследо­вательскую работу учащихся и руководить е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ть систему оценивания, позволяющую учащимся адекватно оценивать свои достижения и совершенствовать и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меть осуществлять рефлексию своей деятельности и своего поведе­ния и уметь организовать ее у учащихся в процессе учебных занят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меть организовать понятийную работу учащих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меть вести занятия в режиме диалога и дискуссии, создавая атмосферу, в которой учащиеся хотели бы высказывать свои сомнения, мнения и точки зрения на обсуждаемый предмет, дискутируя не только между собой, но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ителем, принимая то, что собственная точка зрения может быть также подвергнута сомнению и крити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ладеть компьютерными технологиями и использовать их в учебном процесс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457200" y="49968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ff0000"/>
                </a:solidFill>
                <a:uFillTx/>
                <a:latin typeface="Calibri"/>
              </a:rPr>
              <a:t>Педагогические методы, способы и технолог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спользуются все возможные методы, способы и технологии, позволяющие достигать поставленных целей. Среди них можно отметить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Технологию «критического мышления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оектно-исследовательский метод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рганизацию разнообразных форм диалога и дискусси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Методы формирования поняти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642960" y="500040"/>
            <a:ext cx="8043840" cy="55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63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Актуальность внедрения компетентностного подхода и российскую школу становится все более очевидной. На смену ЗУНам приходят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Calibri"/>
              </a:rPr>
              <a:t>надпредметные образовательные результаты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. Однако для того, чтобы они действительно стали предметом инновации для массовой школы, необходимо, чтобы этой идеей прониклись в первую очередь учителя. Ибо учитель не может развивать те компетенции, которыми не владеет с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8920" indent="633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57200" y="356760"/>
            <a:ext cx="8229600" cy="57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ущественные перемены в образовании невозможны без кардинальных изменений профессионального </a:t>
            </a:r>
            <a:r>
              <a:rPr b="0" lang="ru-RU" sz="2700" spc="-1" strike="noStrike">
                <a:solidFill>
                  <a:srgbClr val="ff0000"/>
                </a:solidFill>
                <a:latin typeface="Calibri"/>
              </a:rPr>
              <a:t>сознания учителя. Это предполагает существенные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еобразования в системе воспроизводства педагогических кадров и изменения отношения со стороны общества к учительскому сословию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ежде должна быть разработана государственная политика в отношении выращивания новой генерации учителей с иным сознанием, иными ценностями и профессиональными компетенциями, направленная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на создание сообщества учителей в качестве новой общественной элит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57200" y="428760"/>
            <a:ext cx="8229600" cy="56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3a5750"/>
                </a:solidFill>
                <a:latin typeface="Calibri"/>
              </a:rPr>
              <a:t>Чему противостоит компетентностный подход в образовании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a5750"/>
                </a:solidFill>
                <a:latin typeface="Calibri"/>
              </a:rPr>
              <a:t>•  </a:t>
            </a:r>
            <a:r>
              <a:rPr b="1" lang="ru-RU" sz="2700" spc="-1" strike="noStrike">
                <a:solidFill>
                  <a:srgbClr val="3a5750"/>
                </a:solidFill>
                <a:latin typeface="Calibri"/>
              </a:rPr>
              <a:t>Традиционному предметному репродуктивному «обучению», в основу которого заложена идея трансляции и усвоения знаний (информации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a5750"/>
                </a:solidFill>
                <a:latin typeface="Calibri"/>
              </a:rPr>
              <a:t>•  </a:t>
            </a:r>
            <a:r>
              <a:rPr b="1" lang="ru-RU" sz="2700" spc="-1" strike="noStrike">
                <a:solidFill>
                  <a:srgbClr val="3a5750"/>
                </a:solidFill>
                <a:latin typeface="Calibri"/>
              </a:rPr>
              <a:t>Селективной, двухуровневой отметочной системе оценива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a5750"/>
                </a:solidFill>
                <a:latin typeface="Calibri"/>
              </a:rPr>
              <a:t>•  </a:t>
            </a:r>
            <a:r>
              <a:rPr b="1" lang="ru-RU" sz="2700" spc="-1" strike="noStrike">
                <a:solidFill>
                  <a:srgbClr val="3a5750"/>
                </a:solidFill>
                <a:latin typeface="Calibri"/>
              </a:rPr>
              <a:t>Принудительным формам организации учебных занятий, сходным с конвейерным способом организации труда </a:t>
            </a:r>
            <a:r>
              <a:rPr b="1" lang="en-US" sz="2700" spc="-1" strike="noStrike">
                <a:solidFill>
                  <a:srgbClr val="3a5750"/>
                </a:solidFill>
                <a:latin typeface="Tw Cen MT"/>
              </a:rPr>
              <a:t>XIX </a:t>
            </a:r>
            <a:r>
              <a:rPr b="1" lang="ru-RU" sz="2700" spc="-1" strike="noStrike">
                <a:solidFill>
                  <a:srgbClr val="3a5750"/>
                </a:solidFill>
                <a:latin typeface="Calibri"/>
              </a:rPr>
              <a:t>век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a5750"/>
                </a:solidFill>
                <a:latin typeface="Calibri"/>
              </a:rPr>
              <a:t>•  </a:t>
            </a:r>
            <a:r>
              <a:rPr b="1" lang="ru-RU" sz="2700" spc="-1" strike="noStrike">
                <a:solidFill>
                  <a:srgbClr val="3a5750"/>
                </a:solidFill>
                <a:latin typeface="Calibri"/>
              </a:rPr>
              <a:t>Вертикальной, иерархически организованной системе административного руководст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57200" y="356760"/>
            <a:ext cx="8229600" cy="57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alibri"/>
              </a:rPr>
              <a:t>компетентностный подход в образовании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сновывается на следующих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принципах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разование для жизни, для успешной социализации в обществе и личностного развит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ценивание для обеспечения возможности учащемуся самому планировать свои образовательные результаты и совершенствовать их в процессе постоянной самооценк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нообразные формы организации самостоятельной, осмысленной деятельности учащихся на основе собственной мотивации и ответствен­ности за результат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•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атричная система управления, делегирование полномочий, привле­чение родителей, учащихся и людей «извне» к управлению ОУ и оценке его деятельност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213840" y="142920"/>
            <a:ext cx="8929800" cy="65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жно выделить следующие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группы надпредметных образовательных </a:t>
            </a:r>
            <a:r>
              <a:rPr b="1" lang="ru-RU" sz="1700" spc="-1" strike="noStrike">
                <a:solidFill>
                  <a:srgbClr val="ff0000"/>
                </a:solidFill>
                <a:latin typeface="Calibri"/>
              </a:rPr>
              <a:t>результатов, то есть ключевых компетенций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1. Коммуникативные (понимание текстов, работа с информацией, выступление, написание текстов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2. Информационные технологии (компютерные - интернет, электронная почта, программирование и т.д.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3. Исследовательские (естественно-научные и гуманитарные методы исследования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4. Проектные (проектное мышление - разработка проектов и участие в их реализации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5. Работа с числами (вычисления, использование математических методов для решения практических задач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6. Организационные (координация деятельности людей для достижения целей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7. Работа в группе (взаимодействие с другими в процессе достижения общей цели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8. Умение учиться  (планирование,  рефлексия,  самооценка,  само­стоятельная работа по теме, поиск информации из разных источников и т.д.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9. Личностная (рефлексия сильных и слабых сторон своей личности, характера, приспособление к своим личностным особенностям, принятие себя, своего «Я»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10. Решение проблем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2876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Компетентностную модель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овременного учителя можно представить в виде состава входящих в нее элементо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Ценности, принципы и цел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офессиональные качеств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лючевые компетенци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дагогические методы, способы и технологи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офессиональные позици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500040" y="42840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ff0000"/>
                </a:solidFill>
                <a:uFillTx/>
                <a:latin typeface="Calibri"/>
              </a:rPr>
              <a:t>Ценности</a:t>
            </a:r>
            <a:r>
              <a:rPr b="0" i="1" lang="ru-RU" sz="2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сюда относятся те суждения, идеи, которые осознаны учителем и в его сознании определяют предельные ценностные границы его деятельности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обода учащегося быть самим собо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ждый человек обладает своим «совершенством»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мочь каждому учащемуся его индивидуальные дарования сделать социально плодотворным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ндивидуальное развитие каждого учащеюся соответствует его способностям, интересам и возможностям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еловек учится только тому, что соответствует его способностям, интересам и что он считает полезным для себ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бы быть успешным в современном обществе, выпускник должен владеть соответствующим комплексом ключевых компетенци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общение учащегося к той культурной традиции, которая в максимальной степени может способствовать его развити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285480" y="214200"/>
            <a:ext cx="8643960" cy="642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Профессиональные качеств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доброжелательно и заинтересованно относиться к учащимс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быть готовым  принимать  конструктивную  критику от коллег и учащихся, вносить соответствующие коррективы в свою деятельност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иметь собственный взгляд на социальную ситуацию и окружающий мир и быть способным поделиться своим видением с учащимис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иметь развитую способность к критике и рефлекс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воздерживаться от роли кладезя мудрости и зн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понимать других людей, имеющих иные ценности, интересы и способ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быть открытым для любых мнений учащихся по обсуждаемому вопрос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спокойно реагировать на едкие замечания в свой адрес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иметь собственную позицию и свою манеру обучения, не быть безлики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уметь делиться с учащимися своими мыслями и чувствам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демонстрировать компетентное поведение - собственную ответственность за результат, любознательность, способность к кооперации и диалогу и т.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демонстрировать увлеченность своим предмет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 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использовать четкий, понятный, гибкий язык с образными выражения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8-27T02:44:22Z</dcterms:modified>
  <cp:revision>13</cp:revision>
  <dc:subject/>
  <dc:title>Слайд 1</dc:title>
</cp:coreProperties>
</file>